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12353-F339-4C94-9BAE-D642C9A0ED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6FAF6-801A-472C-8554-62F1EFD60A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Footer Placeholder 4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771DA-49F0-46A3-A0CE-2805D9667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DE258-35E1-440B-BC7A-F3CD8ACDD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C2BE0-C6DC-4F3D-802B-5AE80BB9B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21B36-8D3C-4C23-B026-ED603012A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7FE5B-1BF1-43EB-A761-DBEE70D08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8AA48-6205-49F1-86AA-756F2CEEF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C97EF-A27F-4BEF-94BC-97ACB2123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1D697-43CC-4A27-BD62-670BA696B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D5857-2CDD-4AD9-8B33-EF12B9316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FE660-D2A5-40C2-B30C-B7A82C7D8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F9271-6C63-40CE-B93F-6F9D02CF1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2BB1B-73CE-4022-A534-75784E2A0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90A14-3FC6-45C3-9815-08C26C565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2C070-EE0C-421D-89AC-8C9F0D148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29383-3057-42C5-94FF-B35BA416C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12F4B-64DE-4273-8F9D-816D8451E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1F84A-CCD8-4821-9F12-A23D7394D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005F9-C8C4-4199-8A00-9889F5261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0F47C-B331-4030-9FC0-D29E162B2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4E90B-56A9-4E53-84D1-FA704A830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CDF92-6A0E-452C-941C-1123B9D80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4FFD4-F397-420F-9F04-B2570CA66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4D040-CA84-4048-9F18-545D71623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C0E1C-E1DB-4E00-89D7-3B27FF859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F8B26-E182-4CE6-9A42-FCBD82AAB39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A980C-6C49-41D9-B62B-B0752089FD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f7e9">
            <a:alpha val="6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5A374-E964-472F-8098-BD6232E34BF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03210-F8D5-4E23-85B8-A7542A0AC6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ight Triangle 3"/>
          <p:cNvSpPr/>
          <p:nvPr/>
        </p:nvSpPr>
        <p:spPr>
          <a:xfrm flipV="1">
            <a:off x="-15480" y="0"/>
            <a:ext cx="7740720" cy="3610080"/>
          </a:xfrm>
          <a:prstGeom prst="rtTriangle">
            <a:avLst/>
          </a:prstGeom>
          <a:solidFill>
            <a:srgbClr val="ccccff"/>
          </a:solidFill>
          <a:ln w="0">
            <a:noFill/>
          </a:ln>
          <a:effectLst>
            <a:outerShdw dist="381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Right Triangle 4"/>
          <p:cNvSpPr/>
          <p:nvPr/>
        </p:nvSpPr>
        <p:spPr>
          <a:xfrm rot="10800000">
            <a:off x="4303800" y="-360"/>
            <a:ext cx="7888320" cy="5281560"/>
          </a:xfrm>
          <a:prstGeom prst="rtTriangle">
            <a:avLst/>
          </a:prstGeom>
          <a:solidFill>
            <a:srgbClr val="7030a0"/>
          </a:solidFill>
          <a:ln w="0">
            <a:noFill/>
          </a:ln>
          <a:effectLst>
            <a:outerShdw dist="381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Rectangle 6"/>
          <p:cNvSpPr/>
          <p:nvPr/>
        </p:nvSpPr>
        <p:spPr>
          <a:xfrm>
            <a:off x="1368360" y="2257560"/>
            <a:ext cx="770904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aining of Core Trainer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PG Management of  Diabetes In Pregnancy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800" spc="-1" strike="noStrike">
                <a:solidFill>
                  <a:srgbClr val="000000"/>
                </a:solidFill>
                <a:latin typeface="Arial"/>
              </a:rPr>
              <a:t>Preconception Care &amp; Counselling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y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. Mastura Ismai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ultant Family Medicine Speciali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linik Kesihatan Seremban 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5" descr=""/>
          <p:cNvPicPr/>
          <p:nvPr/>
        </p:nvPicPr>
        <p:blipFill>
          <a:blip r:embed="rId1"/>
          <a:srcRect l="24844" t="12660" r="40727" b="22364"/>
          <a:stretch/>
        </p:blipFill>
        <p:spPr>
          <a:xfrm>
            <a:off x="9315360" y="2665440"/>
            <a:ext cx="2675160" cy="40402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808080">
                <a:alpha val="7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189000" y="1355760"/>
            <a:ext cx="11771280" cy="366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Arial"/>
                <a:ea typeface="Arial"/>
              </a:rPr>
              <a:t>Preconception care of women with pre-existing diabetes which involve a multidisciplinary team should be fully implemented in all healthcare facil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Arial"/>
                <a:ea typeface="Arial"/>
              </a:rPr>
              <a:t>Supplement of 5 mg folic acid per day should be given to women with diabetes who plan to become pregnant at least three months prior to conception and continue until 12 weeks of gest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31680" y="25560"/>
          <a:ext cx="12060360" cy="1062000"/>
        </p:xfrm>
        <a:graphic>
          <a:graphicData uri="http://schemas.openxmlformats.org/drawingml/2006/table">
            <a:tbl>
              <a:tblPr/>
              <a:tblGrid>
                <a:gridCol w="12060360"/>
              </a:tblGrid>
              <a:tr h="1062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MY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commendation 4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</a:tr>
            </a:tbl>
          </a:graphicData>
        </a:graphic>
      </p:graphicFrame>
      <p:sp>
        <p:nvSpPr>
          <p:cNvPr id="134" name="Footer Placeholder 2"/>
          <p:cNvSpPr/>
          <p:nvPr/>
        </p:nvSpPr>
        <p:spPr>
          <a:xfrm>
            <a:off x="4038480" y="648180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Slide Number Placeholder 2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17224-F4DD-4A5A-83B9-D9E3F14D85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8680" y="2206440"/>
            <a:ext cx="12079440" cy="2128680"/>
          </a:xfrm>
          <a:prstGeom prst="rect">
            <a:avLst/>
          </a:prstGeom>
          <a:solidFill>
            <a:srgbClr val="ffffff"/>
          </a:solidFill>
          <a:ln w="7632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THANK YOU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ooter Placeholder 1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Slide Number Placeholder 1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0ECE4-2ABA-4E67-A999-CDAFF60F4B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144360" y="1355760"/>
            <a:ext cx="11947680" cy="366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Arial"/>
                <a:ea typeface="Arial"/>
              </a:rPr>
              <a:t>Benefits women with pre-existing Type 1 DM (T1DM) and Type 2 DM (T2DM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Arial"/>
                <a:ea typeface="Arial"/>
              </a:rPr>
              <a:t>Reduces the incidence of congenital malformation, preterm delivery and perinatal mort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Arial"/>
                <a:ea typeface="Arial"/>
              </a:rPr>
              <a:t>Lowers the HbA1c level of these women in the first trimester.</a:t>
            </a:r>
            <a:r>
              <a:rPr b="0" lang="en-MY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Arial"/>
                <a:ea typeface="Arial"/>
              </a:rPr>
              <a:t>However, the role of preconception care in women with history of GDM remains unclear due to lack of evidence.</a:t>
            </a:r>
            <a:r>
              <a:rPr b="0" lang="en-MY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31680" y="25560"/>
          <a:ext cx="12060360" cy="1062000"/>
        </p:xfrm>
        <a:graphic>
          <a:graphicData uri="http://schemas.openxmlformats.org/drawingml/2006/table">
            <a:tbl>
              <a:tblPr/>
              <a:tblGrid>
                <a:gridCol w="12060360"/>
              </a:tblGrid>
              <a:tr h="1062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MY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conception Care</a:t>
                      </a:r>
                      <a:r>
                        <a:rPr b="1" lang="en-MY" sz="44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-1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</a:tr>
            </a:tbl>
          </a:graphicData>
        </a:graphic>
      </p:graphicFrame>
      <p:sp>
        <p:nvSpPr>
          <p:cNvPr id="95" name="Rectangle 3"/>
          <p:cNvSpPr/>
          <p:nvPr/>
        </p:nvSpPr>
        <p:spPr>
          <a:xfrm>
            <a:off x="0" y="5780160"/>
            <a:ext cx="121921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24. Wahabi HA, Alzeidan RA, Bawazeer GA, et al. Preconception care for diabetic women for improving maternal and fetal outcomes: a systematic review and meta-analysis.BMC Pregnancy Childbirth. 2010;10:63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90520" indent="-290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25. Tieu J, Bain E, Middleton P, et al. Interconception care for women with a history of gestational diabetes for improving maternal and infant outcomes.Cochrane Database Syst Rev. 2013;(6):CD010211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Footer Placeholder 2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36923-6B62-4B8E-B3D9-EF51019EA0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189000" y="1355760"/>
            <a:ext cx="11903040" cy="366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200880" indent="-20088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Arial"/>
                <a:ea typeface="Arial"/>
              </a:rPr>
              <a:t>Preconception care, provided by a multidisciplinary team, consists of:</a:t>
            </a:r>
            <a:r>
              <a:rPr b="0" lang="en-MY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2360" indent="-30024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600" spc="-1" strike="noStrike">
                <a:solidFill>
                  <a:srgbClr val="000000"/>
                </a:solidFill>
                <a:latin typeface="Arial"/>
                <a:ea typeface="Arial"/>
              </a:rPr>
              <a:t>Discussion on timeline for pregnancy plann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2360" indent="-30024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600" spc="-1" strike="noStrike">
                <a:solidFill>
                  <a:srgbClr val="000000"/>
                </a:solidFill>
                <a:latin typeface="Arial"/>
                <a:ea typeface="Arial"/>
              </a:rPr>
              <a:t>Lifestyle advice (diet, physical activities, smoking cessation and optimal body weight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2360" indent="-30024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600" spc="-1" strike="noStrike">
                <a:solidFill>
                  <a:srgbClr val="000000"/>
                </a:solidFill>
                <a:latin typeface="Arial"/>
                <a:ea typeface="Arial"/>
              </a:rPr>
              <a:t>Folic acid supplemen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2360" indent="-30024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600" spc="-1" strike="noStrike">
                <a:solidFill>
                  <a:srgbClr val="000000"/>
                </a:solidFill>
                <a:latin typeface="Arial"/>
                <a:ea typeface="Arial"/>
              </a:rPr>
              <a:t>Appropriate contraceptio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2360" indent="-30024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600" spc="-1" strike="noStrike">
                <a:solidFill>
                  <a:srgbClr val="000000"/>
                </a:solidFill>
                <a:latin typeface="Arial"/>
                <a:ea typeface="Arial"/>
              </a:rPr>
              <a:t>Full medication review (discontinue potentially teratogenic medication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2360" indent="-30024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600" spc="-1" strike="noStrike">
                <a:solidFill>
                  <a:srgbClr val="000000"/>
                </a:solidFill>
                <a:latin typeface="Arial"/>
                <a:ea typeface="Arial"/>
              </a:rPr>
              <a:t>Retinal and renal screen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2360" indent="-30024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600" spc="-1" strike="noStrike">
                <a:solidFill>
                  <a:srgbClr val="000000"/>
                </a:solidFill>
                <a:latin typeface="Arial"/>
                <a:ea typeface="Arial"/>
              </a:rPr>
              <a:t>Relevant blood investig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31680" y="25560"/>
          <a:ext cx="12060360" cy="1062000"/>
        </p:xfrm>
        <a:graphic>
          <a:graphicData uri="http://schemas.openxmlformats.org/drawingml/2006/table">
            <a:tbl>
              <a:tblPr/>
              <a:tblGrid>
                <a:gridCol w="12060360"/>
              </a:tblGrid>
              <a:tr h="1062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MY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conception Care</a:t>
                      </a:r>
                      <a:r>
                        <a:rPr b="1" lang="en-MY" sz="44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-2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</a:tr>
            </a:tbl>
          </a:graphicData>
        </a:graphic>
      </p:graphicFrame>
      <p:sp>
        <p:nvSpPr>
          <p:cNvPr id="100" name="Rectangle 5"/>
          <p:cNvSpPr/>
          <p:nvPr/>
        </p:nvSpPr>
        <p:spPr>
          <a:xfrm>
            <a:off x="7920" y="6221520"/>
            <a:ext cx="12184200" cy="65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6. National Collaborating Centre for Women’s and Children’s Health (UK). Diabetes in pregnancy: management of diabetes and its complications from preconception to the postnatal period. London: NICE; 2015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Footer Placeholder 2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F3FB5-CBAB-4560-AFA1-33CAC51F21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89000" y="1355760"/>
            <a:ext cx="11903040" cy="366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Arial"/>
                <a:ea typeface="Arial"/>
              </a:rPr>
              <a:t>Women with pre-existing diabetes should b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7040" indent="-33984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Arial"/>
                <a:ea typeface="Arial"/>
              </a:rPr>
              <a:t>informed of the glycaemic control targets and empowered to achieve control before conce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7040" indent="-33984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Arial"/>
                <a:ea typeface="Arial"/>
              </a:rPr>
              <a:t>counselled on the risks and expected management strategies during pregnanc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31680" y="25560"/>
          <a:ext cx="12060360" cy="1062000"/>
        </p:xfrm>
        <a:graphic>
          <a:graphicData uri="http://schemas.openxmlformats.org/drawingml/2006/table">
            <a:tbl>
              <a:tblPr/>
              <a:tblGrid>
                <a:gridCol w="12060360"/>
              </a:tblGrid>
              <a:tr h="1062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MY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conception Care</a:t>
                      </a:r>
                      <a:r>
                        <a:rPr b="1" lang="en-MY" sz="44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-3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</a:tr>
            </a:tbl>
          </a:graphicData>
        </a:graphic>
      </p:graphicFrame>
      <p:sp>
        <p:nvSpPr>
          <p:cNvPr id="105" name="Footer Placeholder 2"/>
          <p:cNvSpPr/>
          <p:nvPr/>
        </p:nvSpPr>
        <p:spPr>
          <a:xfrm>
            <a:off x="4038480" y="648180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Slide Number Placeholder 2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B85D8-503C-44F3-A085-6B3FFD460C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189000" y="1355760"/>
            <a:ext cx="11903040" cy="366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1400" indent="-2214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Arial"/>
                <a:ea typeface="Arial"/>
              </a:rPr>
              <a:t>Women with T2DM who are planning a pregnancy should switch from oral antidiabetic agent (OAD) to insulin for glycaemic control. Patients who are already on metformin may continue treatment.</a:t>
            </a:r>
            <a:r>
              <a:rPr b="0" lang="en-MY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1400" indent="-2214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Arial"/>
                <a:ea typeface="Arial"/>
              </a:rPr>
              <a:t>Women with pre-existing diabetes who also have polycystic ovarian syndrome may continue metformin for the ovulation indu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1400" indent="-2214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Arial"/>
                <a:ea typeface="Arial"/>
              </a:rPr>
              <a:t>Prior to conception or upon detection of pregnancy, the following medications should be discontinued: angiotensin-converting enzyme inhibitors, angiotensin II receptor blockers and statins.</a:t>
            </a:r>
            <a:r>
              <a:rPr b="0" lang="en-MY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31680" y="25560"/>
          <a:ext cx="12060360" cy="1062000"/>
        </p:xfrm>
        <a:graphic>
          <a:graphicData uri="http://schemas.openxmlformats.org/drawingml/2006/table">
            <a:tbl>
              <a:tblPr/>
              <a:tblGrid>
                <a:gridCol w="12060360"/>
              </a:tblGrid>
              <a:tr h="1062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MY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dication Review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</a:tr>
            </a:tbl>
          </a:graphicData>
        </a:graphic>
      </p:graphicFrame>
      <p:sp>
        <p:nvSpPr>
          <p:cNvPr id="109" name="Rectangle 4"/>
          <p:cNvSpPr/>
          <p:nvPr/>
        </p:nvSpPr>
        <p:spPr>
          <a:xfrm>
            <a:off x="7920" y="6221520"/>
            <a:ext cx="12184200" cy="65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6. National Collaborating Centre for Women’s and Children’s Health (UK). Diabetes in pregnancy: management of diabetes and its complications from preconception to the postnatal period. London: NICE; 2015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Footer Placeholder 2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Slide Number Placeholder 3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1FA88-DC9D-457C-9C93-7B9CDDF350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189000" y="1297080"/>
            <a:ext cx="11903040" cy="366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07720" indent="-20772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Arial"/>
                <a:ea typeface="Arial"/>
              </a:rPr>
              <a:t>Women with pre-existing diabetes are encouraged to have a planned pregnanc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7720" indent="-20772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Arial"/>
                <a:ea typeface="Arial"/>
              </a:rPr>
              <a:t>Choice of contraception is based on their own preferences and any risk factors according to the Medical Eligibility Criteria.</a:t>
            </a:r>
            <a:r>
              <a:rPr b="0" lang="en-MY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6</a:t>
            </a:r>
            <a:r>
              <a:rPr b="0" lang="en-MY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7720" indent="-20772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Arial"/>
                <a:ea typeface="Arial"/>
              </a:rPr>
              <a:t>The use of oral contraceptive pills are allowe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7720" indent="-20772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Arial"/>
                <a:ea typeface="Arial"/>
              </a:rPr>
              <a:t>However, intrauterine contraceptive device is the preferred meth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7720" indent="-20772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Arial"/>
                <a:ea typeface="Arial"/>
              </a:rPr>
              <a:t>Caution should be exercised when using Depo-Provera since it may worsen the glycaemic control.</a:t>
            </a:r>
            <a:r>
              <a:rPr b="0" lang="en-MY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31680" y="25560"/>
          <a:ext cx="12060360" cy="1062000"/>
        </p:xfrm>
        <a:graphic>
          <a:graphicData uri="http://schemas.openxmlformats.org/drawingml/2006/table">
            <a:tbl>
              <a:tblPr/>
              <a:tblGrid>
                <a:gridCol w="12060360"/>
              </a:tblGrid>
              <a:tr h="1062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MY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raception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</a:tr>
            </a:tbl>
          </a:graphicData>
        </a:graphic>
      </p:graphicFrame>
      <p:sp>
        <p:nvSpPr>
          <p:cNvPr id="114" name="Rectangle 4"/>
          <p:cNvSpPr/>
          <p:nvPr/>
        </p:nvSpPr>
        <p:spPr>
          <a:xfrm>
            <a:off x="0" y="5703840"/>
            <a:ext cx="12192120" cy="12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6520" indent="-236520"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6. National Collaborating Centre for Women’s and Children’s Health (UK). Diabetes in pregnancy: management of diabetes and its complications from preconception to the postnatal period. London: NICE; 2015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36520" indent="-236520"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27. Joslin Diabetes Center and Joslin Clinic Guideline for Detection and Management of Diabetes in Pregnancy (Available at: http://www.joslin.org/docs/ Pregnancy-Guidelines_11-13-2016_corrected_1-11-2017.pdf) Accessed on: 20/09/2016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Footer Placeholder 2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D3EC2-8BCE-44EF-8D42-2F0A9E2B35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189000" y="1149480"/>
            <a:ext cx="11903040" cy="366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19240" indent="-21924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200" spc="-1" strike="noStrike">
                <a:solidFill>
                  <a:srgbClr val="000000"/>
                </a:solidFill>
                <a:latin typeface="Arial"/>
                <a:ea typeface="Arial"/>
              </a:rPr>
              <a:t>NICE guidelines recommend that women with pre-existing diabetes who plan for pregnancy to aim for HbA1c &lt;6.5% (48 mmol/mol) if this is achievable without causing hypoglycaemia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200" spc="-1" strike="noStrike">
                <a:solidFill>
                  <a:srgbClr val="000000"/>
                </a:solidFill>
                <a:latin typeface="Arial"/>
                <a:ea typeface="Arial"/>
              </a:rPr>
              <a:t>Any reduction in HbA1c level towards the target is likely to reduce the risk of congenital malformations in the baby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200" spc="-1" strike="noStrike">
                <a:solidFill>
                  <a:srgbClr val="000000"/>
                </a:solidFill>
                <a:latin typeface="Arial"/>
                <a:ea typeface="Arial"/>
              </a:rPr>
              <a:t>HbA1c level &gt;10% (86 mmol/mol) not advised to get pregnant because of the associated risks.</a:t>
            </a:r>
            <a:r>
              <a:rPr b="0" lang="en-MY" sz="2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6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200" spc="-1" strike="noStrike">
                <a:solidFill>
                  <a:srgbClr val="000000"/>
                </a:solidFill>
                <a:latin typeface="Arial"/>
                <a:ea typeface="Arial"/>
              </a:rPr>
              <a:t>For each 1% decrement in HbA1c, the risk of pre-eclampsia reduces by 12% in pre-pregnancy period to 53% at 34 weeks of gestation in T1DM.</a:t>
            </a:r>
            <a:r>
              <a:rPr b="0" lang="en-MY" sz="2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8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200" spc="-1" strike="noStrike">
                <a:solidFill>
                  <a:srgbClr val="000000"/>
                </a:solidFill>
                <a:latin typeface="Arial"/>
                <a:ea typeface="Arial"/>
              </a:rPr>
              <a:t>Women with pre-existing diabetes who plan to become pregnant need to increase the frequency of self-monitoring of blood glucose (SMBG) by including fasting, pre- and postprandiallevels.</a:t>
            </a:r>
            <a:r>
              <a:rPr b="0" lang="en-MY" sz="2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6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31680" y="25560"/>
          <a:ext cx="12060360" cy="1062000"/>
        </p:xfrm>
        <a:graphic>
          <a:graphicData uri="http://schemas.openxmlformats.org/drawingml/2006/table">
            <a:tbl>
              <a:tblPr/>
              <a:tblGrid>
                <a:gridCol w="12060360"/>
              </a:tblGrid>
              <a:tr h="1062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MY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lycaemic Control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</a:tr>
            </a:tbl>
          </a:graphicData>
        </a:graphic>
      </p:graphicFrame>
      <p:sp>
        <p:nvSpPr>
          <p:cNvPr id="119" name="Rectangle 4"/>
          <p:cNvSpPr/>
          <p:nvPr/>
        </p:nvSpPr>
        <p:spPr>
          <a:xfrm>
            <a:off x="0" y="5796000"/>
            <a:ext cx="12192120" cy="10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6520" indent="-236520"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6. National Collaborating Centre for Women’s and Children’s Health (UK). Diabetes in pregnancy: management of diabetes and its complications from preconception to the postnatal period. London: NICE; 2015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36520" indent="-236520"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28. </a:t>
            </a:r>
            <a:r>
              <a:rPr b="0" lang="en-GB" sz="1400" spc="-1" strike="noStrike">
                <a:solidFill>
                  <a:srgbClr val="000000"/>
                </a:solidFill>
                <a:latin typeface="Arial Narrow"/>
              </a:rPr>
              <a:t>Holmes VA, Young IS, Patterson CC, et al.; Diabetes and Pre-eclampsia Intervention Trial Study Group. Optimal glycemic control, pre-eclampsia, and gestational hypertension in women with type 1 diabetes in the diabetes and pre-eclampsia intervention trial.Diabetes Care. 2011 Aug;34(8):1683-1688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Footer Placeholder 2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65999-97B9-40C5-8E5A-4526363D4C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189000" y="1149480"/>
            <a:ext cx="11903040" cy="366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17080" indent="-21708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Arial"/>
                <a:ea typeface="Arial"/>
              </a:rPr>
              <a:t>Daily FA supplementation (alone or in combination with other vitamins and minerals) in women who become pregnant or are ≤12 weeks pregnant is effective in preventing neural tube defects (NTDs) compared with no intervention/placebo or vitamins and minerals without FA (RR=0.31, 95% CI 0.17 to 0.58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7080" indent="-21708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Arial"/>
                <a:ea typeface="Arial"/>
              </a:rPr>
              <a:t>It also has protective effect for re-occurrence of NTDs (RR=0.34, 95% CI 0.18 to 0.64). However, there is no significant evidence of preventive effect on cleft palate, cleft lip, congenital cardiovascular defects and miscarriages.</a:t>
            </a:r>
            <a:r>
              <a:rPr b="0" lang="en-MY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31680" y="25560"/>
          <a:ext cx="12060360" cy="1062000"/>
        </p:xfrm>
        <a:graphic>
          <a:graphicData uri="http://schemas.openxmlformats.org/drawingml/2006/table">
            <a:tbl>
              <a:tblPr/>
              <a:tblGrid>
                <a:gridCol w="12060360"/>
              </a:tblGrid>
              <a:tr h="1062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MY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olic Acid Supplementation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</a:tr>
            </a:tbl>
          </a:graphicData>
        </a:graphic>
      </p:graphicFrame>
      <p:sp>
        <p:nvSpPr>
          <p:cNvPr id="124" name="Rectangle 4"/>
          <p:cNvSpPr/>
          <p:nvPr/>
        </p:nvSpPr>
        <p:spPr>
          <a:xfrm>
            <a:off x="0" y="6313320"/>
            <a:ext cx="12192120" cy="58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30. De-Regil LM1, Peña-Rosas JP, Fernández-Gaxiola AC, et al. Effects and safety of periconceptional oral folate supplementation for preventing birth defects.Cochrane Database Syst Rev. 2015;(12):CD007950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Footer Placeholder 2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Slide Number Placeholder 3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35BAE-CF0F-42D3-80F3-E374E9B504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353880" y="1149480"/>
            <a:ext cx="11622240" cy="366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Arial"/>
                <a:ea typeface="Arial"/>
              </a:rPr>
              <a:t>Lack of periconceptional (during a month before conception or first three months of pregnancy) use of vitamins or supplements that contain FA is associated with an excess risk of NTDs in diabetes.</a:t>
            </a:r>
            <a:r>
              <a:rPr b="0" lang="en-MY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Arial"/>
                <a:ea typeface="Arial"/>
              </a:rPr>
              <a:t>All women with diabetes should be counselled regarding intake of foods high in FA, folate-fortified foods and appropriate FA supplementation of 4 to 5 mg per day during the preconception period and in the first 12 weeks of gestation.</a:t>
            </a:r>
            <a:r>
              <a:rPr b="0" lang="en-MY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3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31680" y="25560"/>
          <a:ext cx="12060360" cy="1062000"/>
        </p:xfrm>
        <a:graphic>
          <a:graphicData uri="http://schemas.openxmlformats.org/drawingml/2006/table">
            <a:tbl>
              <a:tblPr/>
              <a:tblGrid>
                <a:gridCol w="12060360"/>
              </a:tblGrid>
              <a:tr h="1062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MY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olic Acid Supplementation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</a:tr>
            </a:tbl>
          </a:graphicData>
        </a:graphic>
      </p:graphicFrame>
      <p:sp>
        <p:nvSpPr>
          <p:cNvPr id="129" name="Rectangle 2"/>
          <p:cNvSpPr/>
          <p:nvPr/>
        </p:nvSpPr>
        <p:spPr>
          <a:xfrm>
            <a:off x="0" y="5632560"/>
            <a:ext cx="12192120" cy="12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31. Correa A1, Gilboa SM, Botto LD, Moore CA, et al; National Birth Defects Prevention Study.Lack of periconceptional vitamins or supplements that contain folic acid and diabetes mellitus-associated birth defects.Am J Obstet Gynecol. 2012;206(3):218.e1-13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32. Allen VM, Armson BA; Genetics Committee; Maternal Fetal Medicine Committee. Teratogenicity associated with pre-existing and gestational diabetes.J ObstetGynaecol Can. 2007;29(11):927-934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Footer Placeholder 2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27353-86AE-49E5-9012-CB8C421573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2-05T03:30:34Z</dcterms:created>
  <dc:creator>Norasyikin A Wahab</dc:creator>
  <dc:description/>
  <dc:language>en-US</dc:language>
  <cp:lastModifiedBy>Ainol</cp:lastModifiedBy>
  <dcterms:modified xsi:type="dcterms:W3CDTF">2018-07-19T06:29:31Z</dcterms:modified>
  <cp:revision>78</cp:revision>
  <dc:subject/>
  <dc:title>PowerPoint Presentation</dc:title>
</cp:coreProperties>
</file>